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17640" bIns="176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17640" bIns="176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38160" rIns="38160" tIns="17640" bIns="1764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17640" bIns="176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-360" y="874080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17640" bIns="176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85840" y="874080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17640" bIns="176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11E83D-5B25-46BB-908C-D098F9791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" Target="../slides/slide8.xml"/><Relationship Id="rId4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885960" y="425520"/>
            <a:ext cx="4424400" cy="3317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69440" y="3884400"/>
            <a:ext cx="5877000" cy="435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ontent Management Prozesse, speziell die Content Lifecycle Prozesse sind entweder Bestandteile der täglich ablaufenden Geschäftsdprozesse oder werden durch diese ausgelöst. D.h. Content Management ist erfolgskritisch für das tägliche Geschä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er Content Manager unterstützt diese Prozesse durch Administrationsprozess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885840" y="874080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17640" bIns="17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BF74C5-2C3A-4060-9644-C373B326E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-360" y="874080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17640" bIns="176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17640" bIns="17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17640" bIns="176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432080" y="922320"/>
            <a:ext cx="3992400" cy="29941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1160" y="4370400"/>
            <a:ext cx="5027760" cy="38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816120" y="506520"/>
            <a:ext cx="3557520" cy="2668320"/>
          </a:xfrm>
          <a:prstGeom prst="rect">
            <a:avLst/>
          </a:prstGeom>
          <a:ln w="0">
            <a:noFill/>
          </a:ln>
        </p:spPr>
      </p:sp>
      <p:graphicFrame>
        <p:nvGraphicFramePr>
          <p:cNvPr id="199" name=""/>
          <p:cNvGraphicFramePr/>
          <p:nvPr/>
        </p:nvGraphicFramePr>
        <p:xfrm>
          <a:off x="785880" y="5154480"/>
          <a:ext cx="5322960" cy="159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880" y="5154480"/>
                    <a:ext cx="5322960" cy="15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527680" y="6554160"/>
            <a:ext cx="640800" cy="1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fld id="{DB107D1C-7745-432E-9EF9-FA116323F92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750960"/>
            <a:ext cx="892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16200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9960" indent="-110880"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080" y="1523880"/>
            <a:ext cx="8983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96080" y="6594120"/>
            <a:ext cx="91440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RA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8515440" y="56880"/>
            <a:ext cx="685800" cy="571320"/>
          </a:xfrm>
          <a:custGeom>
            <a:avLst/>
            <a:gdLst>
              <a:gd name="textAreaLeft" fmla="*/ 0 w 685800"/>
              <a:gd name="textAreaRight" fmla="*/ 686160 w 68580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00" y="0"/>
                </a:lnTo>
                <a:lnTo>
                  <a:pt x="21600" y="10800"/>
                </a:lnTo>
                <a:lnTo>
                  <a:pt x="15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048440" y="2286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roject AIM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18880" y="3007800"/>
            <a:ext cx="4919040" cy="14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ntent Structure Conce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01360" y="734400"/>
            <a:ext cx="389052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1e64"/>
                </a:solidFill>
                <a:latin typeface="Arial"/>
              </a:rPr>
              <a:t>Information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44520" y="660240"/>
            <a:ext cx="7523280" cy="673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rrelation of Content Type Classes with 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rporate Taxonomy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244520" y="1447920"/>
            <a:ext cx="7701120" cy="5029200"/>
            <a:chOff x="1244520" y="1447920"/>
            <a:chExt cx="7701120" cy="5029200"/>
          </a:xfrm>
        </p:grpSpPr>
        <p:sp>
          <p:nvSpPr>
            <p:cNvPr id="142" name=""/>
            <p:cNvSpPr/>
            <p:nvPr/>
          </p:nvSpPr>
          <p:spPr>
            <a:xfrm>
              <a:off x="1244520" y="1447920"/>
              <a:ext cx="7701120" cy="50292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39760" y="2452680"/>
              <a:ext cx="6324840" cy="36068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244520" y="2730600"/>
            <a:ext cx="7899480" cy="3187440"/>
            <a:chOff x="1244520" y="2730600"/>
            <a:chExt cx="7899480" cy="3187440"/>
          </a:xfrm>
        </p:grpSpPr>
        <p:sp>
          <p:nvSpPr>
            <p:cNvPr id="145" name=""/>
            <p:cNvSpPr/>
            <p:nvPr/>
          </p:nvSpPr>
          <p:spPr>
            <a:xfrm>
              <a:off x="1244520" y="4273560"/>
              <a:ext cx="7899480" cy="851040"/>
            </a:xfrm>
            <a:custGeom>
              <a:avLst/>
              <a:gdLst>
                <a:gd name="textAreaLeft" fmla="*/ 0 w 7899480"/>
                <a:gd name="textAreaRight" fmla="*/ 7899840 w 789948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536" y="0"/>
                  </a:lnTo>
                  <a:lnTo>
                    <a:pt x="21600" y="10800"/>
                  </a:lnTo>
                  <a:lnTo>
                    <a:pt x="20536" y="21600"/>
                  </a:lnTo>
                  <a:lnTo>
                    <a:pt x="0" y="21600"/>
                  </a:lnTo>
                  <a:lnTo>
                    <a:pt x="1064" y="10800"/>
                  </a:lnTo>
                  <a:close/>
                </a:path>
              </a:pathLst>
            </a:cu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Processes &amp; Roles                  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76440" y="5194440"/>
              <a:ext cx="2251080" cy="72360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Tools &amp;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Experienc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834080" y="5194440"/>
              <a:ext cx="2112840" cy="72360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200" spc="-1" strike="noStrike">
                  <a:solidFill>
                    <a:srgbClr val="ffffff"/>
                  </a:solidFill>
                  <a:latin typeface="Arial"/>
                </a:rPr>
                <a:t>Technologi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089240" y="2730600"/>
              <a:ext cx="2565720" cy="72396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Employee Topics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1536840" y="2095560"/>
            <a:ext cx="7340400" cy="2025720"/>
            <a:chOff x="1536840" y="2095560"/>
            <a:chExt cx="7340400" cy="2025720"/>
          </a:xfrm>
        </p:grpSpPr>
        <p:sp>
          <p:nvSpPr>
            <p:cNvPr id="150" name=""/>
            <p:cNvSpPr/>
            <p:nvPr/>
          </p:nvSpPr>
          <p:spPr>
            <a:xfrm>
              <a:off x="2514600" y="2108160"/>
              <a:ext cx="1590840" cy="533520"/>
            </a:xfrm>
            <a:prstGeom prst="parallelogram">
              <a:avLst>
                <a:gd name="adj" fmla="val 15116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About u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353360" y="3174840"/>
              <a:ext cx="1523880" cy="825840"/>
            </a:xfrm>
            <a:prstGeom prst="parallelogram">
              <a:avLst>
                <a:gd name="adj" fmla="val 9354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Business </a:t>
              </a:r>
              <a:br>
                <a:rPr sz="2200"/>
              </a:b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Typ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536840" y="2882880"/>
              <a:ext cx="1333440" cy="1238400"/>
            </a:xfrm>
            <a:prstGeom prst="parallelogram">
              <a:avLst>
                <a:gd name="adj" fmla="val 5458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Contacts</a:t>
              </a:r>
              <a:br>
                <a:rPr sz="2200"/>
              </a:b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&amp; </a:t>
              </a:r>
              <a:br>
                <a:rPr sz="2200"/>
              </a:b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105440" y="2095560"/>
              <a:ext cx="2320920" cy="533520"/>
            </a:xfrm>
            <a:prstGeom prst="parallelogram">
              <a:avLst>
                <a:gd name="adj" fmla="val 19636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News &amp; Event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6299280" y="1511280"/>
            <a:ext cx="2502000" cy="430200"/>
          </a:xfrm>
          <a:prstGeom prst="octagon">
            <a:avLst>
              <a:gd name="adj" fmla="val 2928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rkets &amp; Tren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244520" y="1608120"/>
            <a:ext cx="7662960" cy="4836960"/>
            <a:chOff x="1244520" y="1608120"/>
            <a:chExt cx="7662960" cy="4836960"/>
          </a:xfrm>
        </p:grpSpPr>
        <p:sp>
          <p:nvSpPr>
            <p:cNvPr id="156" name=""/>
            <p:cNvSpPr/>
            <p:nvPr/>
          </p:nvSpPr>
          <p:spPr>
            <a:xfrm>
              <a:off x="3409920" y="5873760"/>
              <a:ext cx="1028880" cy="571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1e64"/>
                  </a:solidFill>
                  <a:latin typeface="Arial"/>
                </a:rPr>
                <a:t>Learning </a:t>
              </a:r>
              <a:br>
                <a:rPr sz="1500"/>
              </a:br>
              <a:r>
                <a:rPr b="0" lang="en-GB" sz="1500" spc="-1" strike="noStrike">
                  <a:solidFill>
                    <a:srgbClr val="001e64"/>
                  </a:solidFill>
                  <a:latin typeface="Arial"/>
                </a:rPr>
                <a:t>&amp; Train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210360" y="4311720"/>
              <a:ext cx="1028520" cy="571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1e64"/>
                  </a:solidFill>
                  <a:latin typeface="Arial"/>
                </a:rPr>
                <a:t>Proces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66920" y="5854680"/>
              <a:ext cx="1028880" cy="571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1e64"/>
                  </a:solidFill>
                  <a:latin typeface="Arial"/>
                </a:rPr>
                <a:t>Methods </a:t>
              </a:r>
              <a:br>
                <a:rPr sz="1500"/>
              </a:br>
              <a:r>
                <a:rPr b="0" lang="en-GB" sz="1500" spc="-1" strike="noStrike">
                  <a:solidFill>
                    <a:srgbClr val="001e64"/>
                  </a:solidFill>
                  <a:latin typeface="Arial"/>
                </a:rPr>
                <a:t>&amp; Tool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781360" y="2813040"/>
              <a:ext cx="1028520" cy="571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1e64"/>
                  </a:solidFill>
                  <a:latin typeface="Arial"/>
                </a:rPr>
                <a:t>Contac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244520" y="2425680"/>
              <a:ext cx="1028880" cy="571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1e64"/>
                  </a:solidFill>
                  <a:latin typeface="Arial"/>
                </a:rPr>
                <a:t>Company/</a:t>
              </a:r>
              <a:br>
                <a:rPr sz="1500"/>
              </a:br>
              <a:r>
                <a:rPr b="0" lang="en-GB" sz="1500" spc="-1" strike="noStrike">
                  <a:solidFill>
                    <a:srgbClr val="001e64"/>
                  </a:solidFill>
                  <a:latin typeface="Arial"/>
                </a:rPr>
                <a:t>Biz Partner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878600" y="2603520"/>
              <a:ext cx="1028880" cy="571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1e64"/>
                  </a:solidFill>
                  <a:latin typeface="Arial"/>
                </a:rPr>
                <a:t>Business</a:t>
              </a:r>
              <a:br>
                <a:rPr sz="1500"/>
              </a:br>
              <a:r>
                <a:rPr b="0" lang="en-GB" sz="1500" spc="-1" strike="noStrike">
                  <a:solidFill>
                    <a:srgbClr val="001e64"/>
                  </a:solidFill>
                  <a:latin typeface="Arial"/>
                </a:rPr>
                <a:t>Offer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118120" y="5765760"/>
              <a:ext cx="1028520" cy="571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1e64"/>
                  </a:solidFill>
                  <a:latin typeface="Arial"/>
                </a:rPr>
                <a:t>Technolog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848720" y="3873600"/>
              <a:ext cx="1028520" cy="571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1e64"/>
                  </a:solidFill>
                  <a:latin typeface="Arial"/>
                </a:rPr>
                <a:t>Products, </a:t>
              </a:r>
              <a:br>
                <a:rPr sz="1500"/>
              </a:br>
              <a:r>
                <a:rPr b="0" lang="en-GB" sz="1500" spc="-1" strike="noStrike">
                  <a:solidFill>
                    <a:srgbClr val="001e64"/>
                  </a:solidFill>
                  <a:latin typeface="Arial"/>
                </a:rPr>
                <a:t>Solutions, 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743200" y="3429000"/>
              <a:ext cx="1028880" cy="571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1e64"/>
                  </a:solidFill>
                  <a:latin typeface="Arial"/>
                </a:rPr>
                <a:t>Communit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846920" y="1881360"/>
              <a:ext cx="1028880" cy="571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1e64"/>
                  </a:solidFill>
                  <a:latin typeface="Arial"/>
                </a:rPr>
                <a:t>Markets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1e64"/>
                  </a:solidFill>
                  <a:latin typeface="Arial"/>
                </a:rPr>
                <a:t>&amp; Trend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102200" y="1608120"/>
              <a:ext cx="1028520" cy="571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1e64"/>
                  </a:solidFill>
                  <a:latin typeface="Arial"/>
                </a:rPr>
                <a:t>New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181480" y="1619280"/>
              <a:ext cx="1028880" cy="571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1e64"/>
                  </a:solidFill>
                  <a:latin typeface="Arial"/>
                </a:rPr>
                <a:t>Event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984400" y="1630440"/>
              <a:ext cx="1028880" cy="571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1e64"/>
                  </a:solidFill>
                  <a:latin typeface="Arial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18400" y="2641680"/>
              <a:ext cx="1028520" cy="571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1e64"/>
                  </a:solidFill>
                  <a:latin typeface="Arial"/>
                </a:rPr>
                <a:t>Projec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263760" y="3784680"/>
            <a:ext cx="3467160" cy="194292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ctr">
            <a:noAutofit/>
          </a:bodyPr>
          <a:p>
            <a:pPr lvl="2" marL="914400">
              <a:lnSpc>
                <a:spcPct val="100000"/>
              </a:lnSpc>
              <a:buClr>
                <a:srgbClr val="001e6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1e64"/>
                </a:solidFill>
                <a:latin typeface="Arial"/>
              </a:rPr>
              <a:t>Data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1e6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1e64"/>
                </a:solidFill>
                <a:latin typeface="Arial"/>
              </a:rPr>
              <a:t>Inform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1e6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1e64"/>
                </a:solidFill>
                <a:latin typeface="Arial"/>
              </a:rPr>
              <a:t>Knowledg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1e64"/>
                </a:solidFill>
                <a:latin typeface="Arial"/>
              </a:rPr>
              <a:t>bas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27200" y="2921040"/>
            <a:ext cx="2349720" cy="1231920"/>
          </a:xfrm>
          <a:custGeom>
            <a:avLst/>
            <a:gdLst>
              <a:gd name="textAreaLeft" fmla="*/ 411120 w 2349720"/>
              <a:gd name="textAreaRight" fmla="*/ 1703520 w 2349720"/>
              <a:gd name="textAreaTop" fmla="*/ 164880 h 1231920"/>
              <a:gd name="textAreaBottom" fmla="*/ 1067040 h 1231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86400" y="2921040"/>
            <a:ext cx="2349360" cy="1231920"/>
          </a:xfrm>
          <a:custGeom>
            <a:avLst/>
            <a:gdLst>
              <a:gd name="textAreaLeft" fmla="*/ 411120 w 2349360"/>
              <a:gd name="textAreaRight" fmla="*/ 1703520 w 2349360"/>
              <a:gd name="textAreaTop" fmla="*/ 164880 h 1231920"/>
              <a:gd name="textAreaBottom" fmla="*/ 1067040 h 1231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68120" y="1679400"/>
            <a:ext cx="271512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100" spc="-1" strike="noStrike">
                <a:solidFill>
                  <a:srgbClr val="001e64"/>
                </a:solidFill>
                <a:latin typeface="Arial"/>
              </a:rPr>
              <a:t>Input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1e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1e64"/>
                </a:solidFill>
                <a:latin typeface="Arial"/>
              </a:rPr>
              <a:t>Content Type Class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1e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1e64"/>
                </a:solidFill>
                <a:latin typeface="Arial"/>
              </a:rPr>
              <a:t>Metadat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915880" y="1628640"/>
            <a:ext cx="140004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100" spc="-1" strike="noStrike">
                <a:solidFill>
                  <a:srgbClr val="001e64"/>
                </a:solidFill>
                <a:latin typeface="Arial"/>
              </a:rPr>
              <a:t>Outpu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1e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1e64"/>
                </a:solidFill>
                <a:latin typeface="Arial"/>
              </a:rPr>
              <a:t>Taxonom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1e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1e64"/>
                </a:solidFill>
                <a:latin typeface="Arial"/>
              </a:rPr>
              <a:t>Search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71840" y="5462640"/>
            <a:ext cx="1368360" cy="6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1e64"/>
                </a:solidFill>
                <a:latin typeface="Arial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1e64"/>
                </a:solidFill>
                <a:latin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88000" y="3848040"/>
            <a:ext cx="380880" cy="3682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915160" y="4686480"/>
            <a:ext cx="380880" cy="3682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606840" y="4686480"/>
            <a:ext cx="380880" cy="3682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486400" y="5054760"/>
            <a:ext cx="380880" cy="3682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806560" y="4876560"/>
            <a:ext cx="990720" cy="546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4360" rIns="5436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2959200" y="5232240"/>
            <a:ext cx="2705040" cy="495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4360" rIns="5436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66680" y="588960"/>
            <a:ext cx="801396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2480" bIns="4248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orrelation of Content Type Clas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nd Taxonom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156120" y="710640"/>
            <a:ext cx="260280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1e64"/>
                </a:solidFill>
                <a:latin typeface="Arial"/>
              </a:rPr>
              <a:t>How to proc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42280" y="1762200"/>
            <a:ext cx="648684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ctr">
            <a:spAutoFit/>
          </a:bodyPr>
          <a:p>
            <a:pPr>
              <a:lnSpc>
                <a:spcPct val="100000"/>
              </a:lnSpc>
              <a:buClr>
                <a:srgbClr val="001e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1e64"/>
                </a:solidFill>
                <a:latin typeface="Arial"/>
              </a:rPr>
              <a:t>Investigation of Information-Objects</a:t>
            </a:r>
            <a:br>
              <a:rPr sz="2800"/>
            </a:br>
            <a:r>
              <a:rPr b="0" lang="de-DE" sz="2800" spc="-1" strike="noStrike">
                <a:solidFill>
                  <a:srgbClr val="001e6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1e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1e64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1e64"/>
                </a:solidFill>
                <a:latin typeface="Arial"/>
              </a:rPr>
              <a:t>Association with Content Type Classes</a:t>
            </a:r>
            <a:br>
              <a:rPr sz="2800"/>
            </a:br>
            <a:r>
              <a:rPr b="0" lang="de-DE" sz="2800" spc="-1" strike="noStrike">
                <a:solidFill>
                  <a:srgbClr val="001e6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1e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1e64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1e64"/>
                </a:solidFill>
                <a:latin typeface="Arial"/>
              </a:rPr>
              <a:t>Association with  Metadata</a:t>
            </a:r>
            <a:br>
              <a:rPr sz="2800"/>
            </a:br>
            <a:r>
              <a:rPr b="0" lang="de-DE" sz="2800" spc="-1" strike="noStrike">
                <a:solidFill>
                  <a:srgbClr val="001e6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1e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1e64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1e64"/>
                </a:solidFill>
                <a:latin typeface="Arial"/>
              </a:rPr>
              <a:t>Association with Taxonom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1e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144360" y="1627200"/>
          <a:ext cx="3157560" cy="138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360" y="1627200"/>
                    <a:ext cx="315756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1236600" y="1930320"/>
            <a:ext cx="7907400" cy="37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86364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86364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nl-BE" sz="1200" spc="-1" strike="noStrike">
                <a:solidFill>
                  <a:srgbClr val="cc0000"/>
                </a:solidFill>
                <a:latin typeface="Arial"/>
                <a:ea typeface="Arial"/>
              </a:rPr>
              <a:t>Criteria 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b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understood and useable by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ll employ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86364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nl-BE" sz="1200" spc="-1" strike="noStrike">
                <a:solidFill>
                  <a:srgbClr val="cc0000"/>
                </a:solidFill>
                <a:latin typeface="Arial"/>
                <a:ea typeface="Arial"/>
              </a:rPr>
              <a:t>Criteria 2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hould b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dependent from organiza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alit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86364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nl-BE" sz="1200" spc="-1" strike="noStrike">
                <a:solidFill>
                  <a:srgbClr val="cc0000"/>
                </a:solidFill>
                <a:latin typeface="Arial"/>
                <a:ea typeface="Arial"/>
              </a:rPr>
              <a:t>Criteria 3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hould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irectly guide to a task / 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86364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nl-BE" sz="1200" spc="-1" strike="noStrike">
                <a:solidFill>
                  <a:srgbClr val="cc0000"/>
                </a:solidFill>
                <a:latin typeface="Arial"/>
                <a:ea typeface="Arial"/>
              </a:rPr>
              <a:t>Criteria 4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&gt; 90% (80%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tabilit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for a period of one y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86364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nl-BE" sz="1200" spc="-1" strike="noStrike">
                <a:solidFill>
                  <a:srgbClr val="cc0000"/>
                </a:solidFill>
                <a:latin typeface="Arial"/>
                <a:ea typeface="Arial"/>
              </a:rPr>
              <a:t>Criteria 5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ust be from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terest / relevance for the 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86364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nl-BE" sz="1200" spc="-1" strike="noStrike">
                <a:solidFill>
                  <a:srgbClr val="cc0000"/>
                </a:solidFill>
                <a:latin typeface="Arial"/>
                <a:ea typeface="Arial"/>
              </a:rPr>
              <a:t>Criteria 6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re must be at least 3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level 1 categori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found in 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86364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nl-BE" sz="1200" spc="-1" strike="noStrike">
                <a:solidFill>
                  <a:srgbClr val="cc0000"/>
                </a:solidFill>
                <a:latin typeface="Arial"/>
                <a:ea typeface="Arial"/>
              </a:rPr>
              <a:t>Criteria 7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tegories should have the sam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bstract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36600" y="2700360"/>
            <a:ext cx="755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360" rIns="5436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060640" y="2700360"/>
            <a:ext cx="0" cy="318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360" rIns="5436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36600" y="5884920"/>
            <a:ext cx="755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360" rIns="5436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588960"/>
            <a:ext cx="801396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2480" bIns="4248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Arial"/>
              </a:rPr>
              <a:t>criteria for top level 0(level 1)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639880" y="1550160"/>
            <a:ext cx="367848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axonom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ateg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ntent Type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01360" y="734400"/>
            <a:ext cx="389052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1e64"/>
                </a:solidFill>
                <a:latin typeface="Arial"/>
              </a:rPr>
              <a:t>Information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475360" y="710640"/>
            <a:ext cx="397584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1e64"/>
                </a:solidFill>
                <a:latin typeface="Arial"/>
              </a:rPr>
              <a:t>Information Architecture</a:t>
            </a:r>
            <a:r>
              <a:rPr b="0" lang="de-DE" sz="2400" spc="-1" strike="noStrike">
                <a:solidFill>
                  <a:srgbClr val="001e6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62400" y="1726920"/>
            <a:ext cx="7630560" cy="39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1e64"/>
                </a:solidFill>
                <a:latin typeface="Arial"/>
              </a:rPr>
              <a:t>Taxono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n a broad sense, the science of classifica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ut more strictly the classifica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iving and extinct organis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hardmedia reference chars two"/>
              </a:rPr>
              <a:t>— </a:t>
            </a:r>
            <a:r>
              <a:rPr b="0" i="1" lang="de-DE" sz="2400" spc="-1" strike="noStrike">
                <a:solidFill>
                  <a:srgbClr val="000000"/>
                </a:solidFill>
                <a:latin typeface="hardmedia reference chars two"/>
              </a:rPr>
              <a:t>i.e.,</a:t>
            </a:r>
            <a:r>
              <a:rPr b="0" lang="de-DE" sz="2400" spc="-1" strike="noStrike">
                <a:solidFill>
                  <a:srgbClr val="000000"/>
                </a:solidFill>
                <a:latin typeface="hardmedia reference chars two"/>
              </a:rPr>
              <a:t> biological classific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hardmedia reference chars two"/>
              </a:rPr>
              <a:t>The term is derived from the Gree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hardmedia reference chars two"/>
              </a:rPr>
              <a:t>taxis</a:t>
            </a:r>
            <a:r>
              <a:rPr b="0" lang="de-DE" sz="2400" spc="-1" strike="noStrike">
                <a:solidFill>
                  <a:srgbClr val="000000"/>
                </a:solidFill>
                <a:latin typeface="hardmedia reference chars two"/>
              </a:rPr>
              <a:t> (“arrangement”) and </a:t>
            </a:r>
            <a:r>
              <a:rPr b="0" i="1" lang="de-DE" sz="2400" spc="-1" strike="noStrike">
                <a:solidFill>
                  <a:srgbClr val="000000"/>
                </a:solidFill>
                <a:latin typeface="hardmedia reference chars two"/>
              </a:rPr>
              <a:t>nomos</a:t>
            </a:r>
            <a:r>
              <a:rPr b="0" lang="de-DE" sz="2400" spc="-1" strike="noStrike">
                <a:solidFill>
                  <a:srgbClr val="000000"/>
                </a:solidFill>
                <a:latin typeface="hardmedia reference chars two"/>
              </a:rPr>
              <a:t> (“law”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hardmedia reference chars two"/>
              </a:rPr>
              <a:t>We use it for the classification of information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517480" y="710640"/>
            <a:ext cx="389052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1e64"/>
                </a:solidFill>
                <a:latin typeface="Arial"/>
              </a:rPr>
              <a:t>Information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962800" y="2549880"/>
            <a:ext cx="3815640" cy="14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1e64"/>
                </a:solidFill>
                <a:latin typeface="Arial"/>
              </a:rPr>
              <a:t>Categ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luster of topics in taxonom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17480" y="710640"/>
            <a:ext cx="389052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1e64"/>
                </a:solidFill>
                <a:latin typeface="Arial"/>
              </a:rPr>
              <a:t>Information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34000" y="2184120"/>
            <a:ext cx="5684400" cy="21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1e64"/>
                </a:solidFill>
                <a:latin typeface="Arial"/>
              </a:rPr>
              <a:t>Content Type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s a synopsis of Metadata for similar types of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nformation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469600" y="710640"/>
            <a:ext cx="398952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1e64"/>
                </a:solidFill>
                <a:latin typeface="Arial"/>
              </a:rPr>
              <a:t>Information Architect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85760" y="2494080"/>
            <a:ext cx="5774040" cy="17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1e64"/>
                </a:solidFill>
                <a:latin typeface="Arial"/>
              </a:rPr>
              <a:t>Metada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re data which describe an informatio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3204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Content structure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329440" y="1506600"/>
            <a:ext cx="3586680" cy="1121400"/>
            <a:chOff x="5329440" y="1506600"/>
            <a:chExt cx="3586680" cy="1121400"/>
          </a:xfrm>
        </p:grpSpPr>
        <p:sp>
          <p:nvSpPr>
            <p:cNvPr id="65" name=""/>
            <p:cNvSpPr/>
            <p:nvPr/>
          </p:nvSpPr>
          <p:spPr>
            <a:xfrm rot="10762200">
              <a:off x="5331960" y="2113200"/>
              <a:ext cx="973080" cy="455400"/>
            </a:xfrm>
            <a:custGeom>
              <a:avLst/>
              <a:gdLst>
                <a:gd name="textAreaLeft" fmla="*/ 151920 w 973080"/>
                <a:gd name="textAreaRight" fmla="*/ 851760 w 973080"/>
                <a:gd name="textAreaTop" fmla="*/ 113760 h 455400"/>
                <a:gd name="textAreaBottom" fmla="*/ 341640 h 45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230880" y="1506600"/>
              <a:ext cx="2685240" cy="112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03440"/>
                  <a:tab algn="l" pos="1406520"/>
                  <a:tab algn="l" pos="2109960"/>
                  <a:tab algn="l" pos="2813040"/>
                  <a:tab algn="l" pos="3516480"/>
                  <a:tab algn="l" pos="4219560"/>
                  <a:tab algn="l" pos="4923000"/>
                  <a:tab algn="l" pos="5626080"/>
                  <a:tab algn="l" pos="6329520"/>
                  <a:tab algn="l" pos="7032600"/>
                  <a:tab algn="l" pos="7736040"/>
                  <a:tab algn="l" pos="8439120"/>
                  <a:tab algn="l" pos="9142560"/>
                  <a:tab algn="l" pos="9845640"/>
                  <a:tab algn="l" pos="1054908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Different view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(topic, </a:t>
              </a:r>
              <a:br>
                <a:rPr sz="1700"/>
              </a:b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organization, process,..)</a:t>
              </a:r>
              <a:br>
                <a:rPr sz="1700"/>
              </a:b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Corporate Taxonomy </a:t>
              </a:r>
              <a:br>
                <a:rPr sz="1700"/>
              </a:b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(top 2 layers) = topic view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4391280" y="2865600"/>
            <a:ext cx="4992120" cy="1746720"/>
            <a:chOff x="4391280" y="2865600"/>
            <a:chExt cx="4992120" cy="1746720"/>
          </a:xfrm>
        </p:grpSpPr>
        <p:sp>
          <p:nvSpPr>
            <p:cNvPr id="68" name=""/>
            <p:cNvSpPr/>
            <p:nvPr/>
          </p:nvSpPr>
          <p:spPr>
            <a:xfrm rot="9315600">
              <a:off x="4400640" y="3785400"/>
              <a:ext cx="1873440" cy="455400"/>
            </a:xfrm>
            <a:custGeom>
              <a:avLst/>
              <a:gdLst>
                <a:gd name="textAreaLeft" fmla="*/ 292680 w 1873440"/>
                <a:gd name="textAreaRight" fmla="*/ 1639440 w 1873440"/>
                <a:gd name="textAreaTop" fmla="*/ 113760 h 455400"/>
                <a:gd name="textAreaBottom" fmla="*/ 341640 h 45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211800" y="2865600"/>
              <a:ext cx="3171600" cy="13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03440"/>
                  <a:tab algn="l" pos="1406520"/>
                  <a:tab algn="l" pos="2109960"/>
                  <a:tab algn="l" pos="2813040"/>
                  <a:tab algn="l" pos="3516480"/>
                  <a:tab algn="l" pos="4219560"/>
                  <a:tab algn="l" pos="4923000"/>
                  <a:tab algn="l" pos="5626080"/>
                  <a:tab algn="l" pos="6329520"/>
                  <a:tab algn="l" pos="7032600"/>
                  <a:tab algn="l" pos="7736040"/>
                  <a:tab algn="l" pos="8439120"/>
                  <a:tab algn="l" pos="9142560"/>
                  <a:tab algn="l" pos="9845640"/>
                  <a:tab algn="l" pos="1054908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and general </a:t>
              </a:r>
              <a:br>
                <a:rPr sz="1700"/>
              </a:b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controlled vocabulari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03440"/>
                  <a:tab algn="l" pos="1406520"/>
                  <a:tab algn="l" pos="2109960"/>
                  <a:tab algn="l" pos="2813040"/>
                  <a:tab algn="l" pos="3516480"/>
                  <a:tab algn="l" pos="4219560"/>
                  <a:tab algn="l" pos="4923000"/>
                  <a:tab algn="l" pos="5626080"/>
                  <a:tab algn="l" pos="6329520"/>
                  <a:tab algn="l" pos="7032600"/>
                  <a:tab algn="l" pos="7736040"/>
                  <a:tab algn="l" pos="8439120"/>
                  <a:tab algn="l" pos="9142560"/>
                  <a:tab algn="l" pos="9845640"/>
                  <a:tab algn="l" pos="1054908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Rules and template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br>
                <a:rPr sz="1700"/>
              </a:b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building taxonomies for </a:t>
              </a:r>
              <a:br>
                <a:rPr sz="1700"/>
              </a:b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communities, groups, regions,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1112760" y="3583080"/>
            <a:ext cx="8068680" cy="2540520"/>
            <a:chOff x="1112760" y="3583080"/>
            <a:chExt cx="8068680" cy="2540520"/>
          </a:xfrm>
        </p:grpSpPr>
        <p:sp>
          <p:nvSpPr>
            <p:cNvPr id="71" name=""/>
            <p:cNvSpPr/>
            <p:nvPr/>
          </p:nvSpPr>
          <p:spPr>
            <a:xfrm flipH="1">
              <a:off x="1112760" y="3583080"/>
              <a:ext cx="561600" cy="852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508440" y="4743000"/>
              <a:ext cx="2673000" cy="13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3440"/>
                  <a:tab algn="l" pos="1406520"/>
                  <a:tab algn="l" pos="2109960"/>
                  <a:tab algn="l" pos="2813040"/>
                  <a:tab algn="l" pos="3516480"/>
                  <a:tab algn="l" pos="4219560"/>
                  <a:tab algn="l" pos="4923000"/>
                  <a:tab algn="l" pos="5626080"/>
                  <a:tab algn="l" pos="6329520"/>
                  <a:tab algn="l" pos="7032600"/>
                  <a:tab algn="l" pos="7736040"/>
                  <a:tab algn="l" pos="8439120"/>
                  <a:tab algn="l" pos="9142560"/>
                  <a:tab algn="l" pos="9845640"/>
                  <a:tab algn="l" pos="1054908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Building and maintaining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03440"/>
                  <a:tab algn="l" pos="1406520"/>
                  <a:tab algn="l" pos="2109960"/>
                  <a:tab algn="l" pos="2813040"/>
                  <a:tab algn="l" pos="3516480"/>
                  <a:tab algn="l" pos="4219560"/>
                  <a:tab algn="l" pos="4923000"/>
                  <a:tab algn="l" pos="5626080"/>
                  <a:tab algn="l" pos="6329520"/>
                  <a:tab algn="l" pos="7032600"/>
                  <a:tab algn="l" pos="7736040"/>
                  <a:tab algn="l" pos="8439120"/>
                  <a:tab algn="l" pos="9142560"/>
                  <a:tab algn="l" pos="9845640"/>
                  <a:tab algn="l" pos="1054908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biz specific taxonomi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03440"/>
                  <a:tab algn="l" pos="1406520"/>
                  <a:tab algn="l" pos="2109960"/>
                  <a:tab algn="l" pos="2813040"/>
                  <a:tab algn="l" pos="3516480"/>
                  <a:tab algn="l" pos="4219560"/>
                  <a:tab algn="l" pos="4923000"/>
                  <a:tab algn="l" pos="5626080"/>
                  <a:tab algn="l" pos="6329520"/>
                  <a:tab algn="l" pos="7032600"/>
                  <a:tab algn="l" pos="7736040"/>
                  <a:tab algn="l" pos="8439120"/>
                  <a:tab algn="l" pos="9142560"/>
                  <a:tab algn="l" pos="9845640"/>
                  <a:tab algn="l" pos="1054908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ontrolled vocabulari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03440"/>
                  <a:tab algn="l" pos="1406520"/>
                  <a:tab algn="l" pos="2109960"/>
                  <a:tab algn="l" pos="2813040"/>
                  <a:tab algn="l" pos="3516480"/>
                  <a:tab algn="l" pos="4219560"/>
                  <a:tab algn="l" pos="4923000"/>
                  <a:tab algn="l" pos="5626080"/>
                  <a:tab algn="l" pos="6329520"/>
                  <a:tab algn="l" pos="7032600"/>
                  <a:tab algn="l" pos="7736040"/>
                  <a:tab algn="l" pos="8439120"/>
                  <a:tab algn="l" pos="9142560"/>
                  <a:tab algn="l" pos="9845640"/>
                  <a:tab algn="l" pos="1054908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link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to Corporate </a:t>
              </a:r>
              <a:br>
                <a:rPr sz="1700"/>
              </a:b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Taxonomy and Metadata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1398600" y="1486080"/>
            <a:ext cx="4900680" cy="2319120"/>
            <a:chOff x="1398600" y="1486080"/>
            <a:chExt cx="4900680" cy="2319120"/>
          </a:xfrm>
        </p:grpSpPr>
        <p:grpSp>
          <p:nvGrpSpPr>
            <p:cNvPr id="74" name=""/>
            <p:cNvGrpSpPr/>
            <p:nvPr/>
          </p:nvGrpSpPr>
          <p:grpSpPr>
            <a:xfrm>
              <a:off x="1571760" y="1803240"/>
              <a:ext cx="4501800" cy="1693800"/>
              <a:chOff x="1571760" y="1803240"/>
              <a:chExt cx="4501800" cy="1693800"/>
            </a:xfrm>
          </p:grpSpPr>
          <p:sp>
            <p:nvSpPr>
              <p:cNvPr id="75" name=""/>
              <p:cNvSpPr/>
              <p:nvPr/>
            </p:nvSpPr>
            <p:spPr>
              <a:xfrm>
                <a:off x="1571760" y="1803240"/>
                <a:ext cx="830520" cy="469440"/>
              </a:xfrm>
              <a:prstGeom prst="rect">
                <a:avLst/>
              </a:prstGeom>
              <a:solidFill>
                <a:srgbClr val="0073a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240" rIns="84240" tIns="42120" bIns="42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03440"/>
                    <a:tab algn="l" pos="1406520"/>
                    <a:tab algn="l" pos="2109960"/>
                    <a:tab algn="l" pos="2813040"/>
                    <a:tab algn="l" pos="3516480"/>
                    <a:tab algn="l" pos="4219560"/>
                    <a:tab algn="l" pos="4923000"/>
                    <a:tab algn="l" pos="5626080"/>
                    <a:tab algn="l" pos="6329520"/>
                    <a:tab algn="l" pos="7032600"/>
                    <a:tab algn="l" pos="7736040"/>
                    <a:tab algn="l" pos="8439120"/>
                    <a:tab algn="l" pos="9142560"/>
                    <a:tab algn="l" pos="9845640"/>
                    <a:tab algn="l" pos="10549080"/>
                  </a:tabLst>
                </a:pPr>
                <a:r>
                  <a:rPr b="0" lang="de-DE" sz="1500" spc="-1" strike="noStrike">
                    <a:solidFill>
                      <a:srgbClr val="ffffff"/>
                    </a:solidFill>
                    <a:latin typeface="Arial"/>
                  </a:rPr>
                  <a:t>About u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193840" y="2436840"/>
                <a:ext cx="830520" cy="30384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240" rIns="84240" tIns="42120" bIns="42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03440"/>
                    <a:tab algn="l" pos="1406520"/>
                    <a:tab algn="l" pos="2109960"/>
                    <a:tab algn="l" pos="2813040"/>
                    <a:tab algn="l" pos="3516480"/>
                    <a:tab algn="l" pos="4219560"/>
                    <a:tab algn="l" pos="4923000"/>
                    <a:tab algn="l" pos="5626080"/>
                    <a:tab algn="l" pos="6329520"/>
                    <a:tab algn="l" pos="7032600"/>
                    <a:tab algn="l" pos="7736040"/>
                    <a:tab algn="l" pos="8439120"/>
                    <a:tab algn="l" pos="9142560"/>
                    <a:tab algn="l" pos="9845640"/>
                    <a:tab algn="l" pos="10549080"/>
                  </a:tabLst>
                </a:pPr>
                <a:r>
                  <a:rPr b="1" lang="de-DE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77" name=""/>
              <p:cNvCxnSpPr>
                <a:stCxn id="75" idx="2"/>
                <a:endCxn id="76" idx="1"/>
              </p:cNvCxnSpPr>
              <p:nvPr/>
            </p:nvCxnSpPr>
            <p:spPr>
              <a:xfrm flipH="1" rot="16200000">
                <a:off x="1932840" y="2342520"/>
                <a:ext cx="299160" cy="19404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78" name=""/>
              <p:cNvSpPr/>
              <p:nvPr/>
            </p:nvSpPr>
            <p:spPr>
              <a:xfrm>
                <a:off x="2193840" y="2807280"/>
                <a:ext cx="830520" cy="304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240" rIns="84240" tIns="42120" bIns="42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03440"/>
                    <a:tab algn="l" pos="1406520"/>
                    <a:tab algn="l" pos="2109960"/>
                    <a:tab algn="l" pos="2813040"/>
                    <a:tab algn="l" pos="3516480"/>
                    <a:tab algn="l" pos="4219560"/>
                    <a:tab algn="l" pos="4923000"/>
                    <a:tab algn="l" pos="5626080"/>
                    <a:tab algn="l" pos="6329520"/>
                    <a:tab algn="l" pos="7032600"/>
                    <a:tab algn="l" pos="7736040"/>
                    <a:tab algn="l" pos="8439120"/>
                    <a:tab algn="l" pos="9142560"/>
                    <a:tab algn="l" pos="9845640"/>
                    <a:tab algn="l" pos="10549080"/>
                  </a:tabLst>
                </a:pPr>
                <a:r>
                  <a:rPr b="1" lang="de-DE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79" name=""/>
              <p:cNvCxnSpPr>
                <a:stCxn id="75" idx="2"/>
                <a:endCxn id="78" idx="1"/>
              </p:cNvCxnSpPr>
              <p:nvPr/>
            </p:nvCxnSpPr>
            <p:spPr>
              <a:xfrm flipH="1" rot="16200000">
                <a:off x="1747080" y="2528640"/>
                <a:ext cx="669600" cy="19260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80" name=""/>
              <p:cNvSpPr/>
              <p:nvPr/>
            </p:nvSpPr>
            <p:spPr>
              <a:xfrm>
                <a:off x="2797560" y="1803240"/>
                <a:ext cx="830520" cy="469440"/>
              </a:xfrm>
              <a:prstGeom prst="rect">
                <a:avLst/>
              </a:prstGeom>
              <a:solidFill>
                <a:srgbClr val="0073a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240" rIns="84240" tIns="42120" bIns="42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03440"/>
                    <a:tab algn="l" pos="1406520"/>
                    <a:tab algn="l" pos="2109960"/>
                    <a:tab algn="l" pos="2813040"/>
                    <a:tab algn="l" pos="3516480"/>
                    <a:tab algn="l" pos="4219560"/>
                    <a:tab algn="l" pos="4923000"/>
                    <a:tab algn="l" pos="5626080"/>
                    <a:tab algn="l" pos="6329520"/>
                    <a:tab algn="l" pos="7032600"/>
                    <a:tab algn="l" pos="7736040"/>
                    <a:tab algn="l" pos="8439120"/>
                    <a:tab algn="l" pos="9142560"/>
                    <a:tab algn="l" pos="9845640"/>
                    <a:tab algn="l" pos="10549080"/>
                  </a:tabLst>
                </a:pPr>
                <a:r>
                  <a:rPr b="0" lang="de-DE" sz="1500" spc="-1" strike="noStrike">
                    <a:solidFill>
                      <a:srgbClr val="ffffff"/>
                    </a:solidFill>
                    <a:latin typeface="Arial"/>
                  </a:rPr>
                  <a:t>Business</a:t>
                </a:r>
                <a:br>
                  <a:rPr sz="1500"/>
                </a:br>
                <a:r>
                  <a:rPr b="0" lang="de-DE" sz="1500" spc="-1" strike="noStrike">
                    <a:solidFill>
                      <a:srgbClr val="ffffff"/>
                    </a:solidFill>
                    <a:latin typeface="Arial"/>
                  </a:rPr>
                  <a:t>Type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421080" y="2436840"/>
                <a:ext cx="830520" cy="30384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82" name=""/>
              <p:cNvCxnSpPr>
                <a:stCxn id="80" idx="2"/>
                <a:endCxn id="81" idx="1"/>
              </p:cNvCxnSpPr>
              <p:nvPr/>
            </p:nvCxnSpPr>
            <p:spPr>
              <a:xfrm flipH="1" rot="16200000">
                <a:off x="3160080" y="2342520"/>
                <a:ext cx="299160" cy="19404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83" name=""/>
              <p:cNvSpPr/>
              <p:nvPr/>
            </p:nvSpPr>
            <p:spPr>
              <a:xfrm>
                <a:off x="3419640" y="2807280"/>
                <a:ext cx="830520" cy="304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84" name=""/>
              <p:cNvCxnSpPr>
                <a:stCxn id="80" idx="2"/>
                <a:endCxn id="83" idx="1"/>
              </p:cNvCxnSpPr>
              <p:nvPr/>
            </p:nvCxnSpPr>
            <p:spPr>
              <a:xfrm flipH="1" rot="16200000">
                <a:off x="2975400" y="2528280"/>
                <a:ext cx="669600" cy="19296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85" name=""/>
              <p:cNvSpPr/>
              <p:nvPr/>
            </p:nvSpPr>
            <p:spPr>
              <a:xfrm>
                <a:off x="4619880" y="1803240"/>
                <a:ext cx="830520" cy="469440"/>
              </a:xfrm>
              <a:prstGeom prst="rect">
                <a:avLst/>
              </a:prstGeom>
              <a:solidFill>
                <a:srgbClr val="0073a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243040" y="2436840"/>
                <a:ext cx="830520" cy="30384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87" name=""/>
              <p:cNvCxnSpPr>
                <a:stCxn id="85" idx="2"/>
                <a:endCxn id="86" idx="1"/>
              </p:cNvCxnSpPr>
              <p:nvPr/>
            </p:nvCxnSpPr>
            <p:spPr>
              <a:xfrm flipH="1" rot="16200000">
                <a:off x="4982040" y="2342520"/>
                <a:ext cx="299160" cy="19404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88" name=""/>
              <p:cNvSpPr/>
              <p:nvPr/>
            </p:nvSpPr>
            <p:spPr>
              <a:xfrm>
                <a:off x="5241600" y="2807280"/>
                <a:ext cx="830520" cy="304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89" name=""/>
              <p:cNvCxnSpPr>
                <a:stCxn id="85" idx="2"/>
                <a:endCxn id="88" idx="1"/>
              </p:cNvCxnSpPr>
              <p:nvPr/>
            </p:nvCxnSpPr>
            <p:spPr>
              <a:xfrm flipH="1" rot="16200000">
                <a:off x="4796280" y="2528640"/>
                <a:ext cx="669600" cy="19260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90" name=""/>
              <p:cNvSpPr/>
              <p:nvPr/>
            </p:nvSpPr>
            <p:spPr>
              <a:xfrm>
                <a:off x="2193840" y="3192840"/>
                <a:ext cx="830520" cy="304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240" rIns="84240" tIns="42120" bIns="42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03440"/>
                    <a:tab algn="l" pos="1406520"/>
                    <a:tab algn="l" pos="2109960"/>
                    <a:tab algn="l" pos="2813040"/>
                    <a:tab algn="l" pos="3516480"/>
                    <a:tab algn="l" pos="4219560"/>
                    <a:tab algn="l" pos="4923000"/>
                    <a:tab algn="l" pos="5626080"/>
                    <a:tab algn="l" pos="6329520"/>
                    <a:tab algn="l" pos="7032600"/>
                    <a:tab algn="l" pos="7736040"/>
                    <a:tab algn="l" pos="8439120"/>
                    <a:tab algn="l" pos="9142560"/>
                    <a:tab algn="l" pos="9845640"/>
                    <a:tab algn="l" pos="10549080"/>
                  </a:tabLst>
                </a:pPr>
                <a:r>
                  <a:rPr b="1" lang="de-DE" sz="13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1" name=""/>
              <p:cNvCxnSpPr>
                <a:stCxn id="75" idx="2"/>
                <a:endCxn id="90" idx="1"/>
              </p:cNvCxnSpPr>
              <p:nvPr/>
            </p:nvCxnSpPr>
            <p:spPr>
              <a:xfrm flipH="1" rot="16200000">
                <a:off x="1554840" y="2720520"/>
                <a:ext cx="1055160" cy="19404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92" name=""/>
              <p:cNvSpPr/>
              <p:nvPr/>
            </p:nvSpPr>
            <p:spPr>
              <a:xfrm>
                <a:off x="3421080" y="3192840"/>
                <a:ext cx="830520" cy="304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3" name=""/>
              <p:cNvCxnSpPr>
                <a:stCxn id="80" idx="2"/>
                <a:endCxn id="92" idx="1"/>
              </p:cNvCxnSpPr>
              <p:nvPr/>
            </p:nvCxnSpPr>
            <p:spPr>
              <a:xfrm flipH="1" rot="16200000">
                <a:off x="2782080" y="2720520"/>
                <a:ext cx="1055160" cy="19404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94" name=""/>
              <p:cNvSpPr/>
              <p:nvPr/>
            </p:nvSpPr>
            <p:spPr>
              <a:xfrm>
                <a:off x="5243040" y="3192840"/>
                <a:ext cx="830520" cy="304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5" name=""/>
              <p:cNvCxnSpPr>
                <a:stCxn id="85" idx="2"/>
                <a:endCxn id="94" idx="1"/>
              </p:cNvCxnSpPr>
              <p:nvPr/>
            </p:nvCxnSpPr>
            <p:spPr>
              <a:xfrm flipH="1" rot="16200000">
                <a:off x="4604040" y="2720520"/>
                <a:ext cx="1055160" cy="19404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96" name=""/>
              <p:cNvSpPr/>
              <p:nvPr/>
            </p:nvSpPr>
            <p:spPr>
              <a:xfrm>
                <a:off x="4489920" y="2832480"/>
                <a:ext cx="379440" cy="41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240" rIns="84240" tIns="42120" bIns="42120" anchor="t">
                <a:spAutoFit/>
              </a:bodyPr>
              <a:p>
                <a:pPr algn="ctr">
                  <a:tabLst>
                    <a:tab algn="l" pos="0"/>
                    <a:tab algn="l" pos="703440"/>
                    <a:tab algn="l" pos="1406520"/>
                    <a:tab algn="l" pos="2109960"/>
                    <a:tab algn="l" pos="2813040"/>
                    <a:tab algn="l" pos="3516480"/>
                    <a:tab algn="l" pos="4219560"/>
                    <a:tab algn="l" pos="4923000"/>
                    <a:tab algn="l" pos="5626080"/>
                    <a:tab algn="l" pos="6329520"/>
                    <a:tab algn="l" pos="7032600"/>
                    <a:tab algn="l" pos="7736040"/>
                    <a:tab algn="l" pos="8439120"/>
                    <a:tab algn="l" pos="9142560"/>
                    <a:tab algn="l" pos="9845640"/>
                    <a:tab algn="l" pos="10549080"/>
                  </a:tabLst>
                </a:pPr>
                <a:r>
                  <a:rPr b="1" lang="de-DE" sz="22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 flipV="1">
              <a:off x="5384880" y="1581120"/>
              <a:ext cx="914400" cy="2224080"/>
            </a:xfrm>
            <a:prstGeom prst="flowChartExtract">
              <a:avLst/>
            </a:prstGeom>
            <a:solidFill>
              <a:srgbClr val="dadad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03440"/>
                  <a:tab algn="l" pos="1406520"/>
                  <a:tab algn="l" pos="2109960"/>
                  <a:tab algn="l" pos="2813040"/>
                  <a:tab algn="l" pos="3516480"/>
                  <a:tab algn="l" pos="4219560"/>
                  <a:tab algn="l" pos="4923000"/>
                  <a:tab algn="l" pos="5626080"/>
                  <a:tab algn="l" pos="6329520"/>
                  <a:tab algn="l" pos="7032600"/>
                  <a:tab algn="l" pos="7736040"/>
                  <a:tab algn="l" pos="8439120"/>
                  <a:tab algn="l" pos="9142560"/>
                  <a:tab algn="l" pos="9845640"/>
                  <a:tab algn="l" pos="10549080"/>
                </a:tabLst>
              </a:pPr>
              <a:r>
                <a:rPr b="1" lang="de-DE" sz="1700" spc="-1" strike="noStrike">
                  <a:solidFill>
                    <a:srgbClr val="000000"/>
                  </a:solidFill>
                  <a:latin typeface="Arial"/>
                </a:rPr>
                <a:t>Top </a:t>
              </a:r>
              <a:br>
                <a:rPr sz="1700"/>
              </a:br>
              <a:r>
                <a:rPr b="1" lang="de-DE" sz="1700" spc="-1" strike="noStrike">
                  <a:solidFill>
                    <a:srgbClr val="000000"/>
                  </a:solidFill>
                  <a:latin typeface="Arial"/>
                </a:rPr>
                <a:t>dow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98600" y="1486080"/>
              <a:ext cx="43927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Corporate</a:t>
              </a:r>
              <a:r>
                <a:rPr b="0" lang="en-GB" sz="1700" spc="-1" strike="noStrike">
                  <a:solidFill>
                    <a:srgbClr val="000000"/>
                  </a:solidFill>
                  <a:latin typeface="Arial"/>
                </a:rPr>
                <a:t> Taxonom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241280" y="4040280"/>
            <a:ext cx="5058000" cy="2224080"/>
            <a:chOff x="1241280" y="4040280"/>
            <a:chExt cx="5058000" cy="2224080"/>
          </a:xfrm>
        </p:grpSpPr>
        <p:grpSp>
          <p:nvGrpSpPr>
            <p:cNvPr id="100" name=""/>
            <p:cNvGrpSpPr/>
            <p:nvPr/>
          </p:nvGrpSpPr>
          <p:grpSpPr>
            <a:xfrm>
              <a:off x="1241280" y="4627440"/>
              <a:ext cx="4813200" cy="1517400"/>
              <a:chOff x="1241280" y="4627440"/>
              <a:chExt cx="4813200" cy="1517400"/>
            </a:xfrm>
          </p:grpSpPr>
          <p:sp>
            <p:nvSpPr>
              <p:cNvPr id="101" name=""/>
              <p:cNvSpPr/>
              <p:nvPr/>
            </p:nvSpPr>
            <p:spPr>
              <a:xfrm>
                <a:off x="1241280" y="4627440"/>
                <a:ext cx="1103760" cy="316080"/>
              </a:xfrm>
              <a:prstGeom prst="rect">
                <a:avLst/>
              </a:prstGeom>
              <a:solidFill>
                <a:srgbClr val="669966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240" rIns="84240" tIns="42120" bIns="42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03440"/>
                    <a:tab algn="l" pos="1406520"/>
                    <a:tab algn="l" pos="2109960"/>
                    <a:tab algn="l" pos="2813040"/>
                    <a:tab algn="l" pos="3516480"/>
                    <a:tab algn="l" pos="4219560"/>
                    <a:tab algn="l" pos="4923000"/>
                    <a:tab algn="l" pos="5626080"/>
                    <a:tab algn="l" pos="6329520"/>
                    <a:tab algn="l" pos="7032600"/>
                    <a:tab algn="l" pos="7736040"/>
                    <a:tab algn="l" pos="8439120"/>
                    <a:tab algn="l" pos="9142560"/>
                    <a:tab algn="l" pos="9845640"/>
                    <a:tab algn="l" pos="1054908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CoP Metadat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137680" y="5083920"/>
                <a:ext cx="830520" cy="304200"/>
              </a:xfrm>
              <a:prstGeom prst="rect">
                <a:avLst/>
              </a:prstGeom>
              <a:solidFill>
                <a:srgbClr val="ccff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03" name=""/>
              <p:cNvCxnSpPr>
                <a:stCxn id="101" idx="2"/>
                <a:endCxn id="102" idx="1"/>
              </p:cNvCxnSpPr>
              <p:nvPr/>
            </p:nvCxnSpPr>
            <p:spPr>
              <a:xfrm flipH="1" rot="16200000">
                <a:off x="1819800" y="4933080"/>
                <a:ext cx="275400" cy="33156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104" name=""/>
              <p:cNvSpPr/>
              <p:nvPr/>
            </p:nvSpPr>
            <p:spPr>
              <a:xfrm>
                <a:off x="2136240" y="5455080"/>
                <a:ext cx="830520" cy="304200"/>
              </a:xfrm>
              <a:prstGeom prst="rect">
                <a:avLst/>
              </a:prstGeom>
              <a:solidFill>
                <a:srgbClr val="ccff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05" name=""/>
              <p:cNvCxnSpPr>
                <a:stCxn id="101" idx="2"/>
                <a:endCxn id="104" idx="1"/>
              </p:cNvCxnSpPr>
              <p:nvPr/>
            </p:nvCxnSpPr>
            <p:spPr>
              <a:xfrm flipH="1" rot="16200000">
                <a:off x="1634040" y="5118840"/>
                <a:ext cx="645840" cy="33012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106" name=""/>
              <p:cNvSpPr/>
              <p:nvPr/>
            </p:nvSpPr>
            <p:spPr>
              <a:xfrm>
                <a:off x="2137680" y="5840640"/>
                <a:ext cx="830520" cy="304200"/>
              </a:xfrm>
              <a:prstGeom prst="rect">
                <a:avLst/>
              </a:prstGeom>
              <a:solidFill>
                <a:srgbClr val="ccff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07" name=""/>
              <p:cNvCxnSpPr>
                <a:stCxn id="101" idx="2"/>
                <a:endCxn id="106" idx="1"/>
              </p:cNvCxnSpPr>
              <p:nvPr/>
            </p:nvCxnSpPr>
            <p:spPr>
              <a:xfrm flipH="1" rot="16200000">
                <a:off x="1441440" y="5311440"/>
                <a:ext cx="1032120" cy="33156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108" name=""/>
              <p:cNvSpPr/>
              <p:nvPr/>
            </p:nvSpPr>
            <p:spPr>
              <a:xfrm>
                <a:off x="2883240" y="4627440"/>
                <a:ext cx="830160" cy="292320"/>
              </a:xfrm>
              <a:prstGeom prst="rect">
                <a:avLst/>
              </a:prstGeom>
              <a:solidFill>
                <a:srgbClr val="dadada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240" rIns="84240" tIns="42120" bIns="42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03440"/>
                    <a:tab algn="l" pos="1406520"/>
                    <a:tab algn="l" pos="2109960"/>
                    <a:tab algn="l" pos="2813040"/>
                    <a:tab algn="l" pos="3516480"/>
                    <a:tab algn="l" pos="4219560"/>
                    <a:tab algn="l" pos="4923000"/>
                    <a:tab algn="l" pos="5626080"/>
                    <a:tab algn="l" pos="6329520"/>
                    <a:tab algn="l" pos="7032600"/>
                    <a:tab algn="l" pos="7736040"/>
                    <a:tab algn="l" pos="8439120"/>
                    <a:tab algn="l" pos="9142560"/>
                    <a:tab algn="l" pos="9845640"/>
                    <a:tab algn="l" pos="1054908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Group IC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506400" y="5083920"/>
                <a:ext cx="830160" cy="304200"/>
              </a:xfrm>
              <a:prstGeom prst="rect">
                <a:avLst/>
              </a:prstGeom>
              <a:solidFill>
                <a:srgbClr val="fe997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10" name=""/>
              <p:cNvCxnSpPr>
                <a:stCxn id="108" idx="2"/>
                <a:endCxn id="109" idx="1"/>
              </p:cNvCxnSpPr>
              <p:nvPr/>
            </p:nvCxnSpPr>
            <p:spPr>
              <a:xfrm flipH="1" rot="16200000">
                <a:off x="3245400" y="4989960"/>
                <a:ext cx="299160" cy="19404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111" name=""/>
              <p:cNvSpPr/>
              <p:nvPr/>
            </p:nvSpPr>
            <p:spPr>
              <a:xfrm>
                <a:off x="3504960" y="5455080"/>
                <a:ext cx="830520" cy="304200"/>
              </a:xfrm>
              <a:prstGeom prst="rect">
                <a:avLst/>
              </a:prstGeom>
              <a:solidFill>
                <a:srgbClr val="fe997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12" name=""/>
              <p:cNvCxnSpPr>
                <a:stCxn id="108" idx="2"/>
                <a:endCxn id="111" idx="1"/>
              </p:cNvCxnSpPr>
              <p:nvPr/>
            </p:nvCxnSpPr>
            <p:spPr>
              <a:xfrm flipH="1" rot="16200000">
                <a:off x="3059280" y="5176080"/>
                <a:ext cx="669960" cy="19260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113" name=""/>
              <p:cNvSpPr/>
              <p:nvPr/>
            </p:nvSpPr>
            <p:spPr>
              <a:xfrm>
                <a:off x="3506400" y="5840640"/>
                <a:ext cx="830160" cy="304200"/>
              </a:xfrm>
              <a:prstGeom prst="rect">
                <a:avLst/>
              </a:prstGeom>
              <a:solidFill>
                <a:srgbClr val="fe997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14" name=""/>
              <p:cNvCxnSpPr>
                <a:stCxn id="108" idx="2"/>
                <a:endCxn id="113" idx="1"/>
              </p:cNvCxnSpPr>
              <p:nvPr/>
            </p:nvCxnSpPr>
            <p:spPr>
              <a:xfrm flipH="1" rot="16200000">
                <a:off x="2867040" y="5368320"/>
                <a:ext cx="1055880" cy="19404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115" name=""/>
              <p:cNvSpPr/>
              <p:nvPr/>
            </p:nvSpPr>
            <p:spPr>
              <a:xfrm>
                <a:off x="4602240" y="4627440"/>
                <a:ext cx="830160" cy="292320"/>
              </a:xfrm>
              <a:prstGeom prst="rect">
                <a:avLst/>
              </a:prstGeom>
              <a:solidFill>
                <a:srgbClr val="676767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240" rIns="84240" tIns="42120" bIns="42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03440"/>
                    <a:tab algn="l" pos="1406520"/>
                    <a:tab algn="l" pos="2109960"/>
                    <a:tab algn="l" pos="2813040"/>
                    <a:tab algn="l" pos="3516480"/>
                    <a:tab algn="l" pos="4219560"/>
                    <a:tab algn="l" pos="4923000"/>
                    <a:tab algn="l" pos="5626080"/>
                    <a:tab algn="l" pos="6329520"/>
                    <a:tab algn="l" pos="7032600"/>
                    <a:tab algn="l" pos="7736040"/>
                    <a:tab algn="l" pos="8439120"/>
                    <a:tab algn="l" pos="9142560"/>
                    <a:tab algn="l" pos="9845640"/>
                    <a:tab algn="l" pos="1054908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Region X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223960" y="5083920"/>
                <a:ext cx="830520" cy="304200"/>
              </a:xfrm>
              <a:prstGeom prst="rect">
                <a:avLst/>
              </a:prstGeom>
              <a:solidFill>
                <a:srgbClr val="dadada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17" name=""/>
              <p:cNvCxnSpPr>
                <a:stCxn id="115" idx="2"/>
                <a:endCxn id="116" idx="1"/>
              </p:cNvCxnSpPr>
              <p:nvPr/>
            </p:nvCxnSpPr>
            <p:spPr>
              <a:xfrm flipH="1" rot="16200000">
                <a:off x="4962960" y="4989960"/>
                <a:ext cx="299160" cy="19404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118" name=""/>
              <p:cNvSpPr/>
              <p:nvPr/>
            </p:nvSpPr>
            <p:spPr>
              <a:xfrm>
                <a:off x="5222880" y="5455080"/>
                <a:ext cx="830520" cy="304200"/>
              </a:xfrm>
              <a:prstGeom prst="rect">
                <a:avLst/>
              </a:prstGeom>
              <a:solidFill>
                <a:srgbClr val="dadada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19" name=""/>
              <p:cNvCxnSpPr>
                <a:stCxn id="115" idx="2"/>
                <a:endCxn id="118" idx="1"/>
              </p:cNvCxnSpPr>
              <p:nvPr/>
            </p:nvCxnSpPr>
            <p:spPr>
              <a:xfrm flipH="1" rot="16200000">
                <a:off x="4777920" y="5175720"/>
                <a:ext cx="669960" cy="19296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120" name=""/>
              <p:cNvSpPr/>
              <p:nvPr/>
            </p:nvSpPr>
            <p:spPr>
              <a:xfrm>
                <a:off x="5223960" y="5840640"/>
                <a:ext cx="830520" cy="304200"/>
              </a:xfrm>
              <a:prstGeom prst="rect">
                <a:avLst/>
              </a:prstGeom>
              <a:solidFill>
                <a:srgbClr val="dadada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21" name=""/>
              <p:cNvCxnSpPr>
                <a:stCxn id="115" idx="2"/>
                <a:endCxn id="120" idx="1"/>
              </p:cNvCxnSpPr>
              <p:nvPr/>
            </p:nvCxnSpPr>
            <p:spPr>
              <a:xfrm flipH="1" rot="16200000">
                <a:off x="4584600" y="5368320"/>
                <a:ext cx="1055880" cy="19404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122" name=""/>
              <p:cNvSpPr/>
              <p:nvPr/>
            </p:nvSpPr>
            <p:spPr>
              <a:xfrm>
                <a:off x="4489920" y="5339880"/>
                <a:ext cx="379440" cy="41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240" rIns="84240" tIns="42120" bIns="42120" anchor="t">
                <a:spAutoFit/>
              </a:bodyPr>
              <a:p>
                <a:pPr algn="ctr">
                  <a:tabLst>
                    <a:tab algn="l" pos="0"/>
                    <a:tab algn="l" pos="703440"/>
                    <a:tab algn="l" pos="1406520"/>
                    <a:tab algn="l" pos="2109960"/>
                    <a:tab algn="l" pos="2813040"/>
                    <a:tab algn="l" pos="3516480"/>
                    <a:tab algn="l" pos="4219560"/>
                    <a:tab algn="l" pos="4923000"/>
                    <a:tab algn="l" pos="5626080"/>
                    <a:tab algn="l" pos="6329520"/>
                    <a:tab algn="l" pos="7032600"/>
                    <a:tab algn="l" pos="7736040"/>
                    <a:tab algn="l" pos="8439120"/>
                    <a:tab algn="l" pos="9142560"/>
                    <a:tab algn="l" pos="9845640"/>
                    <a:tab algn="l" pos="10549080"/>
                  </a:tabLst>
                </a:pPr>
                <a:r>
                  <a:rPr b="1" lang="de-DE" sz="22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5384880" y="4040280"/>
              <a:ext cx="914400" cy="2224080"/>
            </a:xfrm>
            <a:prstGeom prst="flowChartExtract">
              <a:avLst/>
            </a:prstGeom>
            <a:solidFill>
              <a:srgbClr val="dadad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03440"/>
                  <a:tab algn="l" pos="1406520"/>
                  <a:tab algn="l" pos="2109960"/>
                  <a:tab algn="l" pos="2813040"/>
                  <a:tab algn="l" pos="3516480"/>
                  <a:tab algn="l" pos="4219560"/>
                  <a:tab algn="l" pos="4923000"/>
                  <a:tab algn="l" pos="5626080"/>
                  <a:tab algn="l" pos="6329520"/>
                  <a:tab algn="l" pos="7032600"/>
                  <a:tab algn="l" pos="7736040"/>
                  <a:tab algn="l" pos="8439120"/>
                  <a:tab algn="l" pos="9142560"/>
                  <a:tab algn="l" pos="9845640"/>
                  <a:tab algn="l" pos="1054908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03440"/>
                  <a:tab algn="l" pos="1406520"/>
                  <a:tab algn="l" pos="2109960"/>
                  <a:tab algn="l" pos="2813040"/>
                  <a:tab algn="l" pos="3516480"/>
                  <a:tab algn="l" pos="4219560"/>
                  <a:tab algn="l" pos="4923000"/>
                  <a:tab algn="l" pos="5626080"/>
                  <a:tab algn="l" pos="6329520"/>
                  <a:tab algn="l" pos="7032600"/>
                  <a:tab algn="l" pos="7736040"/>
                  <a:tab algn="l" pos="8439120"/>
                  <a:tab algn="l" pos="9142560"/>
                  <a:tab algn="l" pos="9845640"/>
                  <a:tab algn="l" pos="1054908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03440"/>
                  <a:tab algn="l" pos="1406520"/>
                  <a:tab algn="l" pos="2109960"/>
                  <a:tab algn="l" pos="2813040"/>
                  <a:tab algn="l" pos="3516480"/>
                  <a:tab algn="l" pos="4219560"/>
                  <a:tab algn="l" pos="4923000"/>
                  <a:tab algn="l" pos="5626080"/>
                  <a:tab algn="l" pos="6329520"/>
                  <a:tab algn="l" pos="7032600"/>
                  <a:tab algn="l" pos="7736040"/>
                  <a:tab algn="l" pos="8439120"/>
                  <a:tab algn="l" pos="9142560"/>
                  <a:tab algn="l" pos="9845640"/>
                  <a:tab algn="l" pos="10549080"/>
                </a:tabLst>
              </a:pPr>
              <a:r>
                <a:rPr b="1" lang="de-DE" sz="1700" spc="-1" strike="noStrike">
                  <a:solidFill>
                    <a:srgbClr val="000000"/>
                  </a:solidFill>
                  <a:latin typeface="Arial"/>
                </a:rPr>
                <a:t>Bottom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03440"/>
                  <a:tab algn="l" pos="1406520"/>
                  <a:tab algn="l" pos="2109960"/>
                  <a:tab algn="l" pos="2813040"/>
                  <a:tab algn="l" pos="3516480"/>
                  <a:tab algn="l" pos="4219560"/>
                  <a:tab algn="l" pos="4923000"/>
                  <a:tab algn="l" pos="5626080"/>
                  <a:tab algn="l" pos="6329520"/>
                  <a:tab algn="l" pos="7032600"/>
                  <a:tab algn="l" pos="7736040"/>
                  <a:tab algn="l" pos="8439120"/>
                  <a:tab algn="l" pos="9142560"/>
                  <a:tab algn="l" pos="9845640"/>
                  <a:tab algn="l" pos="10549080"/>
                </a:tabLst>
              </a:pPr>
              <a:r>
                <a:rPr b="1" lang="de-DE" sz="1700" spc="-1" strike="noStrike">
                  <a:solidFill>
                    <a:srgbClr val="000000"/>
                  </a:solidFill>
                  <a:latin typeface="Arial"/>
                </a:rPr>
                <a:t>u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55920" y="4314960"/>
              <a:ext cx="43941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de-DE" sz="17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specific</a:t>
              </a:r>
              <a:r>
                <a:rPr b="0" lang="en-GB" sz="1700" spc="-1" strike="noStrike">
                  <a:solidFill>
                    <a:srgbClr val="000000"/>
                  </a:solidFill>
                  <a:latin typeface="Arial"/>
                </a:rPr>
                <a:t> Taxonomi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32000" y="2043000"/>
            <a:ext cx="7049880" cy="315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360" rIns="54360" tIns="43560" bIns="4356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500" spc="-1" strike="noStrike">
                <a:solidFill>
                  <a:srgbClr val="000066"/>
                </a:solidFill>
                <a:latin typeface="Arial"/>
              </a:rPr>
              <a:t>TOP CATEGORIES of Corporate Taxonom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588960"/>
            <a:ext cx="801396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2480" bIns="4248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orporate Tax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32000" y="2486160"/>
            <a:ext cx="3414600" cy="2629800"/>
          </a:xfrm>
          <a:prstGeom prst="rect">
            <a:avLst/>
          </a:prstGeom>
          <a:solidFill>
            <a:srgbClr val="d3e2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360" rIns="54360" tIns="43560" bIns="4356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1e64"/>
              </a:buClr>
              <a:buFont typeface="Arial"/>
              <a:buChar char="•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1e64"/>
                </a:solidFill>
                <a:latin typeface="Arial"/>
              </a:rPr>
              <a:t> </a:t>
            </a:r>
            <a:r>
              <a:rPr b="1" lang="nl-BE" sz="1400" spc="-1" strike="noStrike" u="sng">
                <a:solidFill>
                  <a:srgbClr val="001e64"/>
                </a:solidFill>
                <a:uFillTx/>
                <a:latin typeface="Arial"/>
              </a:rPr>
              <a:t>About us</a:t>
            </a:r>
            <a:br>
              <a:rPr sz="1400"/>
            </a:br>
            <a:r>
              <a:rPr b="0" i="1" lang="nl-BE" sz="1200" spc="-1" strike="noStrike">
                <a:solidFill>
                  <a:srgbClr val="ff0000"/>
                </a:solidFill>
                <a:latin typeface="Arial"/>
              </a:rPr>
              <a:t>What is my company/un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1e64"/>
              </a:buClr>
              <a:buFont typeface="Arial"/>
              <a:buChar char="•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 u="sng">
                <a:solidFill>
                  <a:srgbClr val="001e64"/>
                </a:solidFill>
                <a:uFillTx/>
                <a:latin typeface="Arial"/>
              </a:rPr>
              <a:t> </a:t>
            </a:r>
            <a:r>
              <a:rPr b="1" lang="nl-BE" sz="1400" spc="-1" strike="noStrike" u="sng">
                <a:solidFill>
                  <a:srgbClr val="001e64"/>
                </a:solidFill>
                <a:uFillTx/>
                <a:latin typeface="Arial"/>
              </a:rPr>
              <a:t>Business Types</a:t>
            </a:r>
            <a:r>
              <a:rPr b="1" lang="nl-BE" sz="1400" spc="-1" strike="noStrike">
                <a:solidFill>
                  <a:srgbClr val="001e64"/>
                </a:solidFill>
                <a:latin typeface="Arial"/>
              </a:rPr>
              <a:t> </a:t>
            </a:r>
            <a:r>
              <a:rPr b="0" lang="nl-BE" sz="1000" spc="-1" strike="noStrike">
                <a:solidFill>
                  <a:srgbClr val="001e64"/>
                </a:solidFill>
                <a:latin typeface="Arial"/>
              </a:rPr>
              <a:t>(Prod., Solutions, Proj., Serv.)</a:t>
            </a:r>
            <a:br>
              <a:rPr sz="1000"/>
            </a:br>
            <a:r>
              <a:rPr b="0" i="1" lang="nl-BE" sz="1200" spc="-1" strike="noStrike">
                <a:solidFill>
                  <a:srgbClr val="ff0000"/>
                </a:solidFill>
                <a:latin typeface="Arial"/>
              </a:rPr>
              <a:t>What do we off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1e64"/>
              </a:buClr>
              <a:buFont typeface="Arial"/>
              <a:buChar char="•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1e64"/>
                </a:solidFill>
                <a:latin typeface="Arial"/>
              </a:rPr>
              <a:t> </a:t>
            </a:r>
            <a:r>
              <a:rPr b="1" lang="nl-BE" sz="1400" spc="-1" strike="noStrike" u="sng">
                <a:solidFill>
                  <a:srgbClr val="001e64"/>
                </a:solidFill>
                <a:uFillTx/>
                <a:latin typeface="Arial"/>
              </a:rPr>
              <a:t>Contacts &amp; Support</a:t>
            </a:r>
            <a:br>
              <a:rPr sz="1400"/>
            </a:br>
            <a:r>
              <a:rPr b="0" i="1" lang="nl-BE" sz="1200" spc="-1" strike="noStrike">
                <a:solidFill>
                  <a:srgbClr val="ff0000"/>
                </a:solidFill>
                <a:latin typeface="Arial"/>
              </a:rPr>
              <a:t>Who can I contact wh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1e64"/>
              </a:buClr>
              <a:buFont typeface="Arial"/>
              <a:buChar char="•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1e64"/>
                </a:solidFill>
                <a:latin typeface="Arial"/>
              </a:rPr>
              <a:t> </a:t>
            </a:r>
            <a:r>
              <a:rPr b="1" lang="nl-BE" sz="1400" spc="-1" strike="noStrike" u="sng">
                <a:solidFill>
                  <a:srgbClr val="001e64"/>
                </a:solidFill>
                <a:uFillTx/>
                <a:latin typeface="Arial"/>
              </a:rPr>
              <a:t>Employee Topics</a:t>
            </a:r>
            <a:br>
              <a:rPr sz="1400"/>
            </a:br>
            <a:r>
              <a:rPr b="0" i="1" lang="nl-BE" sz="1200" spc="-1" strike="noStrike">
                <a:solidFill>
                  <a:srgbClr val="ff0000"/>
                </a:solidFill>
                <a:latin typeface="Arial"/>
              </a:rPr>
              <a:t>What human resources services are available for 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1e64"/>
              </a:buClr>
              <a:buFont typeface="Arial"/>
              <a:buChar char="•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 u="sng">
                <a:solidFill>
                  <a:srgbClr val="001e64"/>
                </a:solidFill>
                <a:uFillTx/>
                <a:latin typeface="Arial"/>
              </a:rPr>
              <a:t> </a:t>
            </a:r>
            <a:r>
              <a:rPr b="1" lang="nl-BE" sz="1400" spc="-1" strike="noStrike" u="sng">
                <a:solidFill>
                  <a:srgbClr val="001e64"/>
                </a:solidFill>
                <a:uFillTx/>
                <a:latin typeface="Arial"/>
              </a:rPr>
              <a:t>Markets &amp; Trends</a:t>
            </a:r>
            <a:br>
              <a:rPr sz="1400"/>
            </a:br>
            <a:r>
              <a:rPr b="0" i="1" lang="nl-BE" sz="1200" spc="-1" strike="noStrike">
                <a:solidFill>
                  <a:srgbClr val="ff0000"/>
                </a:solidFill>
                <a:latin typeface="Arial"/>
              </a:rPr>
              <a:t>What do we know about our marke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967280" y="2486160"/>
            <a:ext cx="3414600" cy="2234160"/>
          </a:xfrm>
          <a:prstGeom prst="rect">
            <a:avLst/>
          </a:prstGeom>
          <a:solidFill>
            <a:srgbClr val="d3e2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360" rIns="54360" tIns="43560" bIns="4356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1e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 u="sng">
                <a:solidFill>
                  <a:srgbClr val="001e64"/>
                </a:solidFill>
                <a:uFillTx/>
                <a:latin typeface="Arial"/>
              </a:rPr>
              <a:t> </a:t>
            </a:r>
            <a:r>
              <a:rPr b="1" lang="nl-BE" sz="1400" spc="-1" strike="noStrike" u="sng">
                <a:solidFill>
                  <a:srgbClr val="001e64"/>
                </a:solidFill>
                <a:uFillTx/>
                <a:latin typeface="Arial"/>
              </a:rPr>
              <a:t>News &amp; Events</a:t>
            </a:r>
            <a:br>
              <a:rPr sz="1400"/>
            </a:br>
            <a:r>
              <a:rPr b="0" i="1" lang="nl-BE" sz="1200" spc="-1" strike="noStrike">
                <a:solidFill>
                  <a:srgbClr val="ff0000"/>
                </a:solidFill>
                <a:latin typeface="Arial"/>
              </a:rPr>
              <a:t>What ´s going on around my company/un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1e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1e64"/>
                </a:solidFill>
                <a:latin typeface="Arial"/>
              </a:rPr>
              <a:t> </a:t>
            </a:r>
            <a:r>
              <a:rPr b="1" lang="nl-BE" sz="1400" spc="-1" strike="noStrike" u="sng">
                <a:solidFill>
                  <a:srgbClr val="001e64"/>
                </a:solidFill>
                <a:uFillTx/>
                <a:latin typeface="Arial"/>
              </a:rPr>
              <a:t>Processes &amp; Roles</a:t>
            </a:r>
            <a:br>
              <a:rPr sz="1400"/>
            </a:br>
            <a:r>
              <a:rPr b="0" i="1" lang="nl-BE" sz="1200" spc="-1" strike="noStrike">
                <a:solidFill>
                  <a:srgbClr val="ff0000"/>
                </a:solidFill>
                <a:latin typeface="Arial"/>
              </a:rPr>
              <a:t>What are our business process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1e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 u="sng">
                <a:solidFill>
                  <a:srgbClr val="001e64"/>
                </a:solidFill>
                <a:uFillTx/>
                <a:latin typeface="Arial"/>
              </a:rPr>
              <a:t> </a:t>
            </a:r>
            <a:r>
              <a:rPr b="1" lang="nl-BE" sz="1400" spc="-1" strike="noStrike" u="sng">
                <a:solidFill>
                  <a:srgbClr val="001e64"/>
                </a:solidFill>
                <a:uFillTx/>
                <a:latin typeface="Arial"/>
              </a:rPr>
              <a:t>Technologies</a:t>
            </a:r>
            <a:br>
              <a:rPr sz="1400"/>
            </a:br>
            <a:r>
              <a:rPr b="0" i="1" lang="nl-BE" sz="1200" spc="-1" strike="noStrike">
                <a:solidFill>
                  <a:srgbClr val="ff0000"/>
                </a:solidFill>
                <a:latin typeface="Arial"/>
              </a:rPr>
              <a:t>What technologies do we use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1e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 u="sng">
                <a:solidFill>
                  <a:srgbClr val="001e64"/>
                </a:solidFill>
                <a:uFillTx/>
                <a:latin typeface="Arial"/>
              </a:rPr>
              <a:t> </a:t>
            </a:r>
            <a:r>
              <a:rPr b="1" lang="nl-BE" sz="1400" spc="-1" strike="noStrike" u="sng">
                <a:solidFill>
                  <a:srgbClr val="001e64"/>
                </a:solidFill>
                <a:uFillTx/>
                <a:latin typeface="Arial"/>
              </a:rPr>
              <a:t>Tools &amp; Experiences</a:t>
            </a:r>
            <a:br>
              <a:rPr sz="1400"/>
            </a:br>
            <a:r>
              <a:rPr b="0" i="1" lang="nl-BE" sz="1200" spc="-1" strike="noStrike">
                <a:solidFill>
                  <a:srgbClr val="ff0000"/>
                </a:solidFill>
                <a:latin typeface="Arial"/>
              </a:rPr>
              <a:t>What can help me work more effectivel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86680" y="5780160"/>
            <a:ext cx="134388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500" spc="-1" strike="noStrike">
                <a:solidFill>
                  <a:srgbClr val="ff0000"/>
                </a:solidFill>
                <a:latin typeface="Arial"/>
              </a:rPr>
              <a:t>Main Ques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307040" y="5329080"/>
            <a:ext cx="302580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t">
            <a:spAutoFit/>
          </a:bodyPr>
          <a:p>
            <a:pPr>
              <a:lnSpc>
                <a:spcPct val="100000"/>
              </a:lnSpc>
              <a:buClr>
                <a:srgbClr val="001e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 u="sng">
                <a:solidFill>
                  <a:srgbClr val="001e64"/>
                </a:solidFill>
                <a:uFillTx/>
                <a:latin typeface="Arial"/>
              </a:rPr>
              <a:t> </a:t>
            </a:r>
            <a:r>
              <a:rPr b="1" lang="nl-BE" sz="2400" spc="-1" strike="noStrike" u="sng">
                <a:solidFill>
                  <a:srgbClr val="001e64"/>
                </a:solidFill>
                <a:uFillTx/>
                <a:latin typeface="Arial"/>
              </a:rPr>
              <a:t>TOP CATEG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-1329480" y="3909240"/>
            <a:ext cx="391644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360" rIns="5436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LEVEL 0, first entry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3997440" y="4814640"/>
            <a:ext cx="984240" cy="882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4360" rIns="5436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3796920" y="5156280"/>
            <a:ext cx="655560" cy="738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4360" rIns="5436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144360" y="1627200"/>
          <a:ext cx="3157560" cy="138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360" y="1627200"/>
                    <a:ext cx="315756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3268800" y="1638360"/>
            <a:ext cx="5748120" cy="45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86364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nalyses, Studies, Trends</a:t>
            </a:r>
            <a:br>
              <a:rPr sz="2000"/>
            </a:b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e.g. market studies, portfolio analyses, …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86364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mpany Profiles </a:t>
            </a:r>
            <a:br>
              <a:rPr sz="2000"/>
            </a:b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e.g.  customers, partners, … 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86364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untry Aspects</a:t>
            </a:r>
            <a:br>
              <a:rPr sz="2000"/>
            </a:b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e.g. religion, culture, customs, …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86364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stitutions &amp; Government agencies</a:t>
            </a:r>
            <a:br>
              <a:rPr sz="2000"/>
            </a:b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e.g.  DIN, FDA, …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86364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on Government Organizations</a:t>
            </a:r>
            <a:br>
              <a:rPr sz="2000"/>
            </a:b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e.g.  Greenpeace, …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588960"/>
            <a:ext cx="801396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2480" bIns="4248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Arial"/>
              </a:rPr>
              <a:t>Example level 1 Markets &amp; Indus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1066680" y="1508040"/>
            <a:ext cx="1650960" cy="1146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360" rIns="5436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04840" y="2959200"/>
            <a:ext cx="1770120" cy="3520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360" rIns="5436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1T21:39:05Z</dcterms:created>
  <dc:creator>SAP</dc:creator>
  <dc:description>EP Sample Content Structure Concept</dc:description>
  <dc:language>en-US</dc:language>
  <cp:lastModifiedBy>d003179</cp:lastModifiedBy>
  <cp:lastPrinted>2000-05-10T17:23:18Z</cp:lastPrinted>
  <dcterms:modified xsi:type="dcterms:W3CDTF">2003-07-01T12:49:28Z</dcterms:modified>
  <cp:revision>456</cp:revision>
  <dc:subject/>
  <dc:title>EP Sample Content Structure Concept</dc:title>
</cp:coreProperties>
</file>